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3DF-3162-4D38-9BAB-D9754C1E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EFE-9B0F-4286-B9C5-4B7FA13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8A3EA-D9E5-4642-8512-05616BD2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A267E-74A7-400C-9D8E-AB90F406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CEFF4-A28B-40E1-B99B-F97CA8D4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A8EAB-1A13-4E91-A378-FD3094E7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9E7B7-E85C-418B-817A-EE09B823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92B6-F69A-4C12-A307-D3A4769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71EC6-483D-460A-A42B-05BF586D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B8C86-37A0-4610-BC28-5F1AA7F0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0CD04-98C1-4FA2-A6EF-3F0EC9B5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C904E-4F95-4793-A891-19F418B0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50E-BFB9-4718-9BF9-0BBEFB33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9FACA-DDA8-44F2-BC66-DE4B78A6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C7B41-3010-4589-90C1-BB64141E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37D2D-8825-48AA-A057-F7A11285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9C425-C4E7-4055-ABC2-782C811F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7EB98-73DB-4CA6-9576-8AE0D557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16688-1A95-4D5E-94E5-FC8FB5C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FB8AB-8BC2-4ADE-A359-10ECE0A4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22600-0E9C-4CC5-A7C4-D1960CA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3388D-6478-4EA7-A149-23445D25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A85E0-AD0B-47AF-B19B-E430BFA5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87E-142B-448B-AC4A-030DEE68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E944B-8E45-404C-8CAA-7301875F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E7652-2C15-4D81-BF5A-93CB6718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65DE-C3A0-40A5-8659-78350D7F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3E31C-E5EB-4B23-BF76-1F9042B9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AE270-F86B-4392-89EB-0467976F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DBA85-16D5-435C-BE9F-5DDE3BE9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69230-FE0F-46BC-B997-69BF6B33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BD688-05C0-44D5-BBAE-C1212B1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9119D-7A66-4661-BF29-2C2C381A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E0E31-6445-4956-B6B0-B49E9CA7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AF49-7A7D-4FF3-AFCE-9FA42DAA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B8BF7-A778-488E-A264-30FBB342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00CE7-A588-4B0D-9DF7-F1BA16D5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D9D06-F834-423C-8B21-DE47F259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3EF5C-ADCA-46FD-9C2D-2D2B43BF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508FC-7EBF-4F56-A449-0136C36C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BBADE-D3AA-4B9A-8290-7126FF30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710F3-5CE3-450D-837A-4BF35676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E42EC-221B-4E99-AF8D-5F69EA9F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EA79D-3AB4-4D33-93E1-E960C2DD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4E472-C06D-41BE-8D17-A207F954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81B1-C909-436E-97F9-053C0605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4F54D-E2E3-4C9B-A4E4-E4AD131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C5145-C5B3-4A39-8426-6BA009D8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5D78C-E268-428A-A918-78EF94E0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C31AB-6A30-4A68-A493-FC81A823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2610D-7F70-46DE-968A-3D729E3B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A4DD-FB96-4A08-8AFF-BE227E30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091F-3C9D-4ABA-BAAB-C292D5D2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9592-C164-4A79-84D1-024D40A9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7946-441E-4528-9AD3-6E181017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B0E9-445A-4B7E-BC87-04BB01A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D54-2C4C-4BA0-9408-395A7D29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EFFF-E25C-4EDB-8850-1447453D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832C-440E-40D7-AA48-F58FE936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8695-6952-4B63-A40F-486BDDB1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6061-0360-4AE1-8888-D7D15C5B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98E2-3C07-4163-93F9-4B43A970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AD0A-62DD-4AD2-9D32-88A2C4ED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7162-D570-494E-B985-4CA82438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98FF-331A-4CB7-9D6A-52E27658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F487-1952-4C4E-A4FC-041E58BE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517A-A9AE-4EDA-9C6F-82899D2B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8C4-29F9-40BA-A3B6-0982EC61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87AF-0C5D-43DC-A86D-AF77B359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7813-391E-4AB2-8F28-FD678B10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848C-97BD-4E41-9BA9-52C3E3C3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D424-2D31-416D-A1B2-EC1ADF47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207B-E397-4D63-9C9C-AC4E9336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85E4-020B-47D3-9E38-FFF6E01E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B722A-AB64-4599-B73A-C1230052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98BCF-534E-4440-A741-DAF48421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30681-BD58-4FE8-A5AF-7EE7FBBD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702E-B5FB-4826-B19C-BE56CBC1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2D2-F1B3-4A6C-AE65-8FB5DD84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F25E2-57ED-4242-ABAE-5A0FA0DA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A13C0-54A7-4BB1-B5A0-1EC339AA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8BA72-A4C7-42C2-A678-6443DC90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A884C-5F4A-44E4-8682-F768A983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F567-8793-4674-B37B-A81AE965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41DE-4988-450C-81BE-6E1A4E6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5A8E-CCF9-49FE-B616-0029BA97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4A76-BEFB-4635-9A5A-4E6F534E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7179D-9AD3-4DF6-95A6-F8C65775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6BCF5-60DA-49E4-9F1D-306C61ED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0B7-5D57-480F-913C-3702C945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BCFBA-C06C-4F34-B4DB-423D250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C9D3-8211-4830-BA0E-8CC3C69B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9930-1492-4BFC-B401-198AD89C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FB8D9-A267-4C89-B694-FF7B886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0C8C3-A8CE-4D3E-B310-1D4880C7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8D21-FFF7-4F9F-8AE1-0F68839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2B88E-32D6-4C06-8008-143889C0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F040-163D-4C16-91B6-3A92CD5E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B5499-D1B6-41F1-B069-85845F3C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D3D4-A762-4BBC-B23C-7D250788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AB8-08BB-4324-BA72-6CF7EDCD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C000-FF63-42E5-BACB-367AF7D1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6A3F7-764D-4156-B038-ADEC1423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162B-556F-4B60-81C2-84367E94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E9950-5B45-46F0-B3A8-52D3DFC1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19B0D-AD58-4A2C-9415-333A885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DB616-068C-4D23-BE60-F007C376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C6343-2D84-4221-9164-AA6FD7B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2DFD1-B1BE-482A-A9D1-D96CFF58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4638-B907-4E15-A2F8-118C1701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E76F3-CF04-4C59-8A6D-55E351F1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34F-AA6F-4675-9EB1-47CCF8D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3E7AC-2A13-42BA-BB48-CC2AAE0E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20E7-9500-414F-903F-E202659D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2C783-58A0-4D51-806F-48BE60DB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90789-274A-4E7F-B5E4-5316CEBD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F6CD6-C77C-496A-87ED-004835CE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2B458-1FFE-481E-B6E5-9A991B7D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72C87-57C3-4687-B6B8-BBB834D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51C0C-FF9E-4EBA-9685-9791BEFB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025FE-B7DB-46BF-B0DD-9A9BA3FE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D2E53-C24B-471D-BCCA-A067D51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F14-D643-438F-8685-D12CA3BF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6EDD4-5BAE-4957-971F-C517255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017DE-3D1B-4469-93B3-0E757E10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8CD0E-DC67-4B22-A84D-7E75B9C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E31E2-84C4-4B8E-8EA8-723086A5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3827-3D44-46C1-BD42-2BD4437E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E5C40-3303-45D1-8867-9BF3E1B8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C5FF-0342-418A-A62F-E52D0E17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C8BF0-C96B-4CE8-8FF5-5F9B2D7B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C5877-5906-4FA1-8D15-8C3C940F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31A83-AFF0-485A-A2A6-C4514D8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A84-90C6-4745-8654-13C9D0E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8B010-1429-48FF-BA5C-6DB3C7AC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96AA2-327B-43F0-B283-0F41CB8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EDBFB-E09E-4C53-BAC0-72E0F07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E6C26-20DF-453E-82F3-F4838E4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39D55-86C9-4834-964A-40FABD4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16BA-09D7-4F9D-B1AC-CB5BCF8A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AC118-276D-4F50-948F-851AA213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AF71B-7943-4F53-97C6-48C20308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9FFC4-1FF8-46B4-8957-96A8EC3D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B77B1-04DE-4B2C-902D-0EF384B6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4108-A898-4EC4-8F42-F7A70B86C5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5489-48EF-4170-9083-1348699B46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FFF4-8C10-48EC-AC79-F9901EFD3C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4F5E-86E9-49EC-B9DE-37D148E388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57B-B4F7-42BE-ADE8-F292E6AAA9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9A4B-2129-42C0-8FE3-EB76DF3D47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DC6A-3100-4F8D-9378-C6E6CC72F1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550E-3026-4CEB-BC97-18D876430E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7BEB-F759-4D7A-93C6-E124DB2390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F8BE-B367-44E9-BCEC-7176459584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236F-1D7A-4B1C-9321-88BD92A7B1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788D-AF2C-46F4-AE1E-B3804E9A58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8 Svätého Pís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ácna zv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ätého Písma vzácna zvesť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, Spasiteľ;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jem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ždy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zdáva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chvál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česť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ečný tvorstva cieľ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on je spásnou nádej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hriechom zmámen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mocou slova liečiv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zdraví rane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je Láska slúžia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eje novej j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nájde duša túžiac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eskej priazne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ľuby svoje nez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u pevnú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radosť túžbu pre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ríde v sláve k n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45:04Z</dcterms:modified>
  <cp:revision>32</cp:revision>
  <dc:subject/>
  <dc:title>Je veľký náš Pán, on slávy je Kráľ Nech do všetkých strán  spev vrúcnych znie chvál.</dc:title>
</cp:coreProperties>
</file>